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947A-A6F6-4523-A995-472490EDC2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last around 1 hour. If learners do not have access to computers, the teacher will need to print out copies of both the Easier English and the original article beforeh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F818-19CA-45C0-85AF-5A5442B55EE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in pairs /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ould guide learners towards discussing all reading skills including lexical knowle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AF8C-077A-47DE-AE1A-B3D370C5EB2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briefly before they read to predict ans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3AB3-42D4-4D10-9B89-001D3EDD702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a paper copy of the text, or learners log on to a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will need to scan for answers to questions 1 and 2, and skim to answer question 3: 3 minu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1F62-EFEA-4D71-AC92-64F43B910AE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copies of the original version, or learners can log onto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F506-DA83-4458-8D42-BD28B445FB3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ompare Easier English and original articles : just this paragraph, or the whole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59F2-0D20-469B-9121-312CA0C84CE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task could be divided up eg. each learner finds 3 interesting new phrases / words to sh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F661-4D1E-44FD-9D53-A0D206ED694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discuss the answers, then whole class feedback. Learners should see how much easier it is to read the original article after reading the simplified version and developing vocabulary fir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D23E-3DE2-42D1-892C-9FE1401491D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FB5-D343-4140-81AF-EC8711A9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BE6-58A1-41EE-9578-CBDE3C61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8AA-DEB6-4095-B305-9F57053B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DE2-59CA-4D03-94B4-CDA9132E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D3A-B3CE-49CB-A237-7EFE1C73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F6D-D5F7-4F97-829F-0A3D0706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9A1-AC07-48CF-8CA9-B70E653A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B5D-F618-4C79-B404-8DBE2CD8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273-32A1-465E-AC06-0E0B24F1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48C-86AA-4159-96B3-8E2B9EFA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460-19E2-4EDB-A2E7-EBC1FC67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A26-F3FE-4E73-B45A-BF41AA4C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C458-3F2D-4477-BB74-73FD0D510FB2}" type="slidenum">
              <a:rPr b="0" lang="en-GB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20840" y="1773360"/>
            <a:ext cx="8229600" cy="3732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5013000"/>
            <a:ext cx="813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Internationalist Easier English Ready Less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pper Intermedi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708360" y="476280"/>
            <a:ext cx="4896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good is your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could you read better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stops you reading more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problems do you have when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eewiki.newint.org/index.php/Working_like_a_hor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nd the answers and discus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ook at the original article - you can click on the link at the bottom of the Easier English article, or go t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te down all the words/phrases you are not sure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5796000" y="4869000"/>
            <a:ext cx="2870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4114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About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a billion poor people in the world rely on animals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live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, for transport and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earn their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. But many people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don’t have the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for veterinary care</a:t>
            </a: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171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Around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a billion of the world’s poor rely on animals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for subsistenc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, transport and to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generate an incom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But many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cannot afford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veterinary care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ook Antiqua"/>
              </a:rPr>
              <a:t>Share, compare and list new vocabulary and phras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340000" y="3151080"/>
            <a:ext cx="5259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95280" y="1341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w read the original article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o answer these question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1/ Why do SPANA treat animals for free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2/ Why was the donkey important to the Moroccan boy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3/ Why can it be more serious if cows are ill than if children are ill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95280" y="126792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ook at the wiki site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http://eewiki.newint.org/index.php/Main_Page       and find an interesting articl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Do the same thing again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Easier English artic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original (click the link at the bottom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earn the new vocabulary and phrases by comparing both artic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2:15:54Z</dcterms:created>
  <dc:creator>windows 7 image</dc:creator>
  <dc:description/>
  <dc:language>en-US</dc:language>
  <cp:lastModifiedBy>Linda Ruas</cp:lastModifiedBy>
  <dcterms:modified xsi:type="dcterms:W3CDTF">2013-09-08T15:12:45Z</dcterms:modified>
  <cp:revision>6</cp:revision>
  <dc:subject/>
  <dc:title>PowerPoint Presentation</dc:title>
</cp:coreProperties>
</file>